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DD8E-2763-49F4-8D8F-D653CF5C2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C712-5FF6-4C93-BB1A-A5648EEB8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7593-E55C-480F-9573-1C156EB09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6F3E-01E8-4ED9-B710-5C128D71E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419A-AB73-45DA-9F9B-FDD0FA3B0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A7B7-87D4-4EC4-AE7E-D84CC7FD4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132A-EBAF-4789-BD7B-9456988F1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8B0D-45D4-4EE6-A564-B33F52CCB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DFA5-31F7-44CD-903A-9DC7B4366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2A2B-F594-48AD-9DE2-4E4E1B3EF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912C-912E-474B-8CFD-4D1C1A65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2FC2-0900-4EB3-A447-F83C6D6B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20CC9-73EC-4B84-8EB6-BD98550DB80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tense.ppt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27920" y="1481040"/>
            <a:ext cx="7462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一般过去时表示一个动作或情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在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过去某个的时间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开始和结束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walked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to school 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yesterday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bought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a new car 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three days ago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030640" y="4437000"/>
            <a:ext cx="0" cy="4572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7960" y="4437000"/>
            <a:ext cx="0" cy="5335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483440" y="4716360"/>
            <a:ext cx="126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no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11640" y="4970520"/>
            <a:ext cx="306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walked,bough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58920" y="4797360"/>
            <a:ext cx="468144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90720" y="1600200"/>
            <a:ext cx="76356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.I (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all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____ Roger at nine last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ight,  but he (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be,not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____at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ome.He(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study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____ at the librar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51960" y="4508640"/>
            <a:ext cx="624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called;was not;was study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295280" y="990720"/>
            <a:ext cx="7239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3.I(</a:t>
            </a: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hear,not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)___the thunder during the storm last night because I (</a:t>
            </a: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sleep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)____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50880" y="4581360"/>
            <a:ext cx="654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didn’t hear;was sleep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62120" y="1447920"/>
            <a:ext cx="8207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4.My brother and sister(</a:t>
            </a: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argue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____ about something when 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walk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)____ into the roo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01280" y="4267080"/>
            <a:ext cx="5684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were arguing;walk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09480" y="838080"/>
            <a:ext cx="7903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6.While Mrs. Emerson(</a:t>
            </a: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read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____ the little boy a story,h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fall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)____a sleep,so she (</a:t>
            </a: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close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_____ the book and quietl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tiptoe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)____ out of the roo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71760" y="5003640"/>
            <a:ext cx="8003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was reading,fell,closed,tipto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26160" y="1341360"/>
            <a:ext cx="8596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7.----Nancy is not com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onigh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----But she ____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.promises       B.promis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.will promise  D. had promis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27640" y="4365720"/>
            <a:ext cx="27432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09480" y="1447920"/>
            <a:ext cx="82836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8.Shirley ___ a book abou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hina last year but I don’t know whether  she has finished i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.has written    B.wro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.had written    D.was writ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03640" y="5877000"/>
            <a:ext cx="327672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355760" y="1925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95280" y="836640"/>
            <a:ext cx="83818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9.I first met Lisa three years ago.She ___ at a radio shop at the time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.has worked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B. was work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.had been work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D.had work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280" y="4508640"/>
            <a:ext cx="358128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042920" y="692280"/>
            <a:ext cx="73915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10.I don’t think Jim saw me; he ___ into spac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A.just stared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B.was just star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C.has just star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D.had just star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332000" y="3645000"/>
            <a:ext cx="441936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61760" y="1143000"/>
            <a:ext cx="8073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11.As she ____ the newspaper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Granny____ asleep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.read; was fall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B.was reading;fe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.was reading;was fall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D.read;fe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4114800"/>
            <a:ext cx="4594320" cy="349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01400" y="1484280"/>
            <a:ext cx="84744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12.---You phone number agai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 ____ quite catch i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---It’s 9568442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. didn’t        B. couldn’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.don’t         D.can’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4437000"/>
            <a:ext cx="20574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4360" y="1844640"/>
            <a:ext cx="7796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表示过去经常性的动作或情况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I often got up at 6:00 last yea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736640" y="2154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79800" y="1219320"/>
            <a:ext cx="88340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13.---We could have walked t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station,it was so nea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----Yes,a taxi ___ at necessar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. wasn’t     B. hadn’t be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. wouldn’t b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D. won’t b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11280" y="4149720"/>
            <a:ext cx="230508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95280" y="1341360"/>
            <a:ext cx="8353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14.Tom ___ into the house when no one ___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A. slipped, was look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B. had slipped, look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C. slipped, had look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D. was slipped, look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9640" y="3573360"/>
            <a:ext cx="756144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95280" y="907920"/>
            <a:ext cx="83358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The reporter said the UFO _____east to west when he saw i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traveled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was traveling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C. had been travel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D. was to trave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9640" y="4581360"/>
            <a:ext cx="518472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55640" y="836640"/>
            <a:ext cx="77961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Hey, look where you are going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Oh, I’m terribly sorry.__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I’m not notic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I wasn’t notic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I haven’t not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I don’t not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00000" y="4508640"/>
            <a:ext cx="51120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55640" y="1989000"/>
            <a:ext cx="7724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What a nice bike! Where ___ you ___ i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do; buy     B. have; bough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C. did ; buy  D. will; bu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26920" y="4292640"/>
            <a:ext cx="309744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24000" y="1125360"/>
            <a:ext cx="84438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The students ___ busily when Miss Brown went to get a book she ___ in the offic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 written; lef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ere writing; has lef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 written; had lef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ere writing; had lef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4724280"/>
            <a:ext cx="684000" cy="79236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971640" y="1484280"/>
            <a:ext cx="7003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Mary ___ a dress when she cut her fin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made    B. is mak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C. was mak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D. mak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71640" y="3284640"/>
            <a:ext cx="684000" cy="79200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808200" y="890640"/>
            <a:ext cx="7796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The last time I ___ Jane she ___ cotton in the field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 seen; was pick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saw; pick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 seen; pick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saw; was pick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71640" y="5229360"/>
            <a:ext cx="54007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rId1"/>
          </p:cNvPr>
          <p:cNvSpPr/>
          <p:nvPr/>
        </p:nvSpPr>
        <p:spPr>
          <a:xfrm>
            <a:off x="8028000" y="609300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01040" y="1382760"/>
            <a:ext cx="44719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英语动词的四种形式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、原形            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lear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、过去形式    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learn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、过去分词    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learn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、现在分词    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learn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203480" y="176364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731600" y="1230480"/>
            <a:ext cx="5680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动词的一般过去形式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listen—listen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2.study---stud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i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3.stop-----sto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pp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4.come----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cam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63560" y="2362320"/>
            <a:ext cx="7576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walked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to school yesterda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i="1" lang="en-US" sz="4000" spc="-1" strike="noStrike" u="sng">
                <a:solidFill>
                  <a:srgbClr val="ff3300"/>
                </a:solidFill>
                <a:uFillTx/>
                <a:latin typeface="Times New Roman"/>
              </a:rPr>
              <a:t>didn’t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walk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to school yesterda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Did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you  </a:t>
            </a: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walk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to school yesterday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74880" y="13827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15480" y="762120"/>
            <a:ext cx="7919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过去进行时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was walking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down the stre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ffff"/>
                </a:solidFill>
                <a:latin typeface="Times New Roman"/>
              </a:rPr>
              <a:t>when it began to rain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476360" y="3429000"/>
            <a:ext cx="5381640" cy="2743200"/>
            <a:chOff x="1476360" y="3429000"/>
            <a:chExt cx="5381640" cy="2743200"/>
          </a:xfrm>
        </p:grpSpPr>
        <p:sp>
          <p:nvSpPr>
            <p:cNvPr id="55" name=""/>
            <p:cNvSpPr/>
            <p:nvPr/>
          </p:nvSpPr>
          <p:spPr>
            <a:xfrm>
              <a:off x="5508720" y="4365720"/>
              <a:ext cx="0" cy="2872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362320" y="4495680"/>
              <a:ext cx="0" cy="30492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00200" y="4648320"/>
              <a:ext cx="1447920" cy="533160"/>
            </a:xfrm>
            <a:custGeom>
              <a:avLst/>
              <a:gdLst/>
              <a:ahLst/>
              <a:rect l="l" t="t" r="r" b="b"/>
              <a:pathLst>
                <a:path w="768" h="336">
                  <a:moveTo>
                    <a:pt x="0" y="0"/>
                  </a:moveTo>
                  <a:cubicBezTo>
                    <a:pt x="152" y="168"/>
                    <a:pt x="304" y="336"/>
                    <a:pt x="432" y="336"/>
                  </a:cubicBezTo>
                  <a:cubicBezTo>
                    <a:pt x="560" y="336"/>
                    <a:pt x="664" y="168"/>
                    <a:pt x="768" y="0"/>
                  </a:cubicBezTo>
                </a:path>
              </a:pathLst>
            </a:custGeom>
            <a:noFill/>
            <a:ln w="7632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514600" y="3429000"/>
              <a:ext cx="4343400" cy="609480"/>
            </a:xfrm>
            <a:prstGeom prst="wedgeRectCallout">
              <a:avLst>
                <a:gd name="adj1" fmla="val -50875"/>
                <a:gd name="adj2" fmla="val 130208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When it began to rai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133720" y="5562720"/>
              <a:ext cx="2590560" cy="609480"/>
            </a:xfrm>
            <a:prstGeom prst="wedgeRectCallout">
              <a:avLst>
                <a:gd name="adj1" fmla="val -36518"/>
                <a:gd name="adj2" fmla="val -9974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I was walkin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76360" y="4653000"/>
              <a:ext cx="51832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128560" y="4595760"/>
              <a:ext cx="99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now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919880" y="2133720"/>
            <a:ext cx="565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过去进行时的构成 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was/were</a:t>
            </a: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 + - 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2360" y="1052640"/>
            <a:ext cx="90702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was walking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down the stre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en it began to rai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was not walking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down the stre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en it began to rai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Were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you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 walking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down the stre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en it began to rai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14400" y="685800"/>
            <a:ext cx="70102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用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一般过去时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或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过去进行时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填空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1.I don’t want to go to the zoo today  because it is raining.The same thing  happened 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yesterday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. I (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want ,not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) ____  to go to the zoo because it (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rain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)____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19640" y="5589720"/>
            <a:ext cx="495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didn’t want, was rai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8T10:05:39Z</dcterms:created>
  <dc:creator>zhao jinliang</dc:creator>
  <dc:description/>
  <dc:language>en-US</dc:language>
  <cp:lastModifiedBy>Legend User</cp:lastModifiedBy>
  <dcterms:modified xsi:type="dcterms:W3CDTF">2002-11-24T11:53:40Z</dcterms:modified>
  <cp:revision>19</cp:revision>
  <dc:subject/>
  <dc:title>PowerPoint 演示文稿</dc:title>
</cp:coreProperties>
</file>